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FA5-76D8-43FE-A81A-CD06576F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F35-74A8-4CBC-BC4D-348F774D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6BD-CAF8-4FFA-A646-0AB3F4EC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8CE-6334-44D5-B344-82FBDBEB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220-6D85-414D-B8FB-82A32EC8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493-E8F3-4AC3-A482-1B29A735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9C4-E32D-41AE-98BF-E0D8C069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C3D-84AE-4588-901D-7B5DB19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9FB-C4FD-4E00-85EB-ABED4C9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DA3-B95E-4520-8126-D6B75AC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41B-A2FF-4440-945B-17C3AC0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1FF-DDB3-43A9-9401-89431E6C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AB0-97FA-406F-9A3C-2C0CFA7E7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03280" y="0"/>
            <a:ext cx="6661080" cy="51134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5"/>
          <p:cNvGrpSpPr/>
          <p:nvPr/>
        </p:nvGrpSpPr>
        <p:grpSpPr>
          <a:xfrm>
            <a:off x="746280" y="5157720"/>
            <a:ext cx="7886520" cy="1666800"/>
            <a:chOff x="746280" y="5157720"/>
            <a:chExt cx="7886520" cy="1666800"/>
          </a:xfrm>
        </p:grpSpPr>
        <p:sp>
          <p:nvSpPr>
            <p:cNvPr id="43" name="Rectangle 6"/>
            <p:cNvSpPr/>
            <p:nvPr/>
          </p:nvSpPr>
          <p:spPr>
            <a:xfrm>
              <a:off x="746280" y="5157720"/>
              <a:ext cx="78865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                  Atmospheric                        De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evel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7" descr="indicator"/>
            <p:cNvPicPr/>
            <p:nvPr/>
          </p:nvPicPr>
          <p:blipFill>
            <a:blip r:embed="rId2"/>
            <a:stretch/>
          </p:blipFill>
          <p:spPr>
            <a:xfrm>
              <a:off x="890280" y="5729040"/>
              <a:ext cx="7456320" cy="10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403280" y="0"/>
            <a:ext cx="6661080" cy="51134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746280" y="5157720"/>
            <a:ext cx="7886520" cy="1666800"/>
            <a:chOff x="746280" y="5157720"/>
            <a:chExt cx="7886520" cy="1666800"/>
          </a:xfrm>
        </p:grpSpPr>
        <p:sp>
          <p:nvSpPr>
            <p:cNvPr id="47" name="Rectangle 6"/>
            <p:cNvSpPr/>
            <p:nvPr/>
          </p:nvSpPr>
          <p:spPr>
            <a:xfrm>
              <a:off x="746280" y="5157720"/>
              <a:ext cx="78865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                  Atmospheric                        De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evel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7" descr="indicator"/>
            <p:cNvPicPr/>
            <p:nvPr/>
          </p:nvPicPr>
          <p:blipFill>
            <a:blip r:embed="rId2"/>
            <a:stretch/>
          </p:blipFill>
          <p:spPr>
            <a:xfrm>
              <a:off x="890280" y="5729040"/>
              <a:ext cx="7456320" cy="10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3708360" y="1052640"/>
            <a:ext cx="6573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3718080" y="2062080"/>
            <a:ext cx="6570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3718080" y="2976480"/>
            <a:ext cx="666720" cy="90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6"/>
          <a:stretch/>
        </p:blipFill>
        <p:spPr>
          <a:xfrm>
            <a:off x="3686040" y="3881520"/>
            <a:ext cx="695520" cy="981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1547640" y="0"/>
            <a:ext cx="2376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608004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5877000" y="3429000"/>
            <a:ext cx="3012840" cy="303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156360" y="620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the correct explanation for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5084640"/>
            <a:ext cx="58770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545320" cy="190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476360" y="2095560"/>
            <a:ext cx="6080040" cy="474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757760" y="2708280"/>
            <a:ext cx="2486160" cy="69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4757760" y="3732120"/>
            <a:ext cx="262872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4807080" y="4741920"/>
            <a:ext cx="257148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4757760" y="5950080"/>
            <a:ext cx="26766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7:37Z</dcterms:created>
  <dc:creator>debbie</dc:creator>
  <dc:description/>
  <dc:language>en-US</dc:language>
  <cp:lastModifiedBy>Carl R. Pratt</cp:lastModifiedBy>
  <dcterms:modified xsi:type="dcterms:W3CDTF">2013-08-11T17:52:09Z</dcterms:modified>
  <cp:revision>6</cp:revision>
  <dc:subject/>
  <dc:title>Slide 1</dc:title>
</cp:coreProperties>
</file>